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240"/>
            <a:ext cx="822888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240"/>
            <a:ext cx="822888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240"/>
            <a:ext cx="822888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240"/>
            <a:ext cx="822888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240"/>
            <a:ext cx="822888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240"/>
            <a:ext cx="822888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240"/>
            <a:ext cx="822888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240"/>
            <a:ext cx="8228880" cy="53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240"/>
            <a:ext cx="822888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240"/>
            <a:ext cx="822888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240"/>
            <a:ext cx="822888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240"/>
            <a:ext cx="822888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Shape 1"/>
          <p:cNvSpPr/>
          <p:nvPr/>
        </p:nvSpPr>
        <p:spPr>
          <a:xfrm>
            <a:off x="504000" y="226080"/>
            <a:ext cx="907128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TextShape 2"/>
          <p:cNvSpPr/>
          <p:nvPr/>
        </p:nvSpPr>
        <p:spPr>
          <a:xfrm>
            <a:off x="504000" y="1326600"/>
            <a:ext cx="9071280" cy="32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